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D95-0E22-4F85-A313-9937A66B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B9C-6149-4D29-AEF5-7951BBE6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0E65D-5BD3-4765-A8D4-1725C1BF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E5B03-F870-413F-8C08-9DE2C0BF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50F43-340D-496A-95AB-79D9506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8C84-5985-4C48-85FD-FCB4602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A357-E566-4D10-95CC-F19C6CA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E25C3-EBD6-4697-A562-965A100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AFEF5-8F7B-4B91-A376-4C788D19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6F806-1DBE-4615-917D-350AD2ED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7FA95-F3DE-4C52-946F-72995B43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CDF-99C8-475E-9B99-A76EF985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29F-FF9B-44D5-A336-0A76CB6B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62CA-A858-4BCD-8E94-0CA6F599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81F9-8686-44FD-894E-7BBB3FC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F34B-F1C9-4817-9951-604B9D4C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A23-EC8A-4A6C-BA59-819843DA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25AA-9AD4-48C0-9192-3FCFEF8A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33F2-9EE9-47B9-94E8-F19DA6BF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65E-9627-455E-9FC2-7D902A1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5BD-1EB6-4410-BF16-D9915EE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DB62-E2CA-48AE-B494-35A0F54A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BFC-B0D3-40A8-BE6F-99A4611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8FD-45BE-42DF-80A3-E320226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0D46-413A-4CA5-943B-DE26B9E6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052-6E9D-412A-BF25-04A40C1D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F8DF-C9D6-43AA-811A-62098D81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E289-CC28-4CBB-89A7-43CBB0F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2D56-894D-4E85-8476-762C707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EA56-EE12-4A35-97BA-DE34B023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A98F-51EE-47A3-9733-791FEDA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3B4-80EB-474C-8427-06985E1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E186-A6FD-4F0C-9AA3-B7EFAC7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60F0-0186-4508-B18F-AAD0535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B3D8-A4AF-4C03-AC98-20792C2F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F868-483A-4A85-8F12-768F595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2137-26DB-48B3-AF44-36B6E05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3429-8A58-407E-8D71-F501F32F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5941-7896-4537-86AE-764CB555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FF10-0D01-4EA4-9EAE-2CEABB0A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3A34-57BB-4FE6-98B8-8A3A1D8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F1D9F-A666-4CAB-9BA5-3D4C3B3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417-4678-4239-A60F-3D3119F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3008-D040-4576-8A9A-86E716D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FC7C-B551-4250-ABCF-2BFF7754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1B91-4709-4CA3-97A2-A343B3C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6593-7565-46D8-9285-9BF44EE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491A-2DFE-4572-92A6-93BB57B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50917-C1C3-4B64-8749-4DE0136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2114-C070-4B8F-BE64-F0670FFD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5048-E618-4CB6-A54E-C784EC66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16B2-9D75-4CF5-ADF8-DC1385A4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9E6B-CDB8-4E4B-ACB3-FDF5E371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46E-E32D-4D25-83CA-857BBFF1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4617-E97E-4D1A-83A5-1287EC6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9332-9382-4307-AD69-482CA58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B9F9-ACC9-4464-8B69-E7E3495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5F45-BE82-4666-A88A-0A69841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229E-240B-4D4D-B568-5E874BDE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106F-74BC-4980-8ED1-D7BC0FA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DB05-E6E9-4A0C-A568-B4CE513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39A8-16D4-4F43-8943-30CEEFE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1F30-105A-428D-B5BD-4BCAE5A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4C1E-68A1-4E83-8831-5F4C90FC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0DB-B62B-4BDB-84D5-C8875E30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2822-D00C-4AA4-B118-8146B963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A9F8-50DE-45DD-8286-8E613712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CA6D-5C64-40D8-AFAD-E93A2601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DAB8-8EB9-46F3-900C-CCBE346E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EA7E-F080-46DD-972E-22170399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98A0-11F9-4BD7-A5F6-D1493A57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5CEE3-52B1-4B3B-98DA-3E51B56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2217-E6E0-402E-87B1-20D2E72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B3D4-72E4-4684-BB69-819B980F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BEA0-CA8C-4ED6-B748-2CE6A4FE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DBD-BF5A-499C-A0BC-D1507A1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1AEB-8BBA-4AD2-BF15-8686702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F7CA-F160-4394-AA86-DC39AC6E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85FF-CEAC-4635-B0CF-0867E3D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7C517-921D-4CEF-9721-D3438F5E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28E1-6A57-4789-956D-B02EE629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7BAD-D789-405F-8369-F2DCF4E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05170-C47C-4841-B10E-BA1BDCA8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E9A4-0A3D-4DE3-A905-E704CCB0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FA9B-62FE-4602-ADEE-ABED4D35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E9BE-2314-45BF-92D2-68D53E3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0A4-3D4D-4ACD-88C5-7427CDD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AFE1-503B-4388-9195-16EB3DF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8CFC-F95F-41B6-80E5-BE8EBF2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B9AD-EA90-457C-AB66-B64022C9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E260-E2F0-4C2B-B87D-6CD44919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D721-8216-4404-8019-FA85F3D5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0187C-F3E0-48B4-88C2-D27A981D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57D1-2604-4390-AF20-DD5A040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147A-F3EB-4F81-BAF6-27F0537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30987-D4F8-414F-929A-6043D0F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E6E5-BA5D-4974-8C3A-8A052B3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A88-A139-4462-8AA6-DA3E166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B90F1-CBBE-402E-A328-E4F966A5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2247-2071-48EA-A5D4-6669CCE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319A-E713-4A96-90CA-BD1DDDF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88CC-B1EA-4102-B05F-CAD181A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62D77-FC3A-4CA9-8B0D-1796E83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00CB-03A6-41A3-93F1-89B7E73D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B659A-EFE6-4622-ADD1-75F76A3B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05F6E-C151-47A7-ADE8-C0BBD10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98C14-DA39-42D8-8D9A-8F30DE7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0402E-95CF-4FB8-89CC-D42686C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2992-47D2-47BB-96A9-1BC0200DA3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2DA-2C76-42A3-8627-51A00C3E0D3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6818-AFFF-4C8A-BFFA-88F2C6E88A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6120-088B-432A-8E4F-B49D03A764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5D2A-A32F-4AFB-BA75-41C7AA7547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AB32-62C3-4A93-9F00-92FD756F70A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91EB-A349-4437-BDA3-613BE73534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873F-B347-465E-B4C8-6A526CDD2A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140-9732-47D6-8461-A8A5E694888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92160" y="1444680"/>
            <a:ext cx="8937720" cy="2146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3329"/>
                </a:solidFill>
                <a:latin typeface="Adobe Garamond Pro Bold"/>
              </a:rPr>
              <a:t>What’s Next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35049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Bi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Physic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Chemistr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304920" y="4038480"/>
            <a:ext cx="5105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3 Years of a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Content Placeholder 2"/>
          <p:cNvSpPr/>
          <p:nvPr/>
        </p:nvSpPr>
        <p:spPr>
          <a:xfrm>
            <a:off x="4800600" y="1523880"/>
            <a:ext cx="3276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35049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Bi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Physic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Chemistr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304920" y="4038480"/>
            <a:ext cx="5333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3 Years of a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Content Placeholder 2"/>
          <p:cNvSpPr/>
          <p:nvPr/>
        </p:nvSpPr>
        <p:spPr>
          <a:xfrm>
            <a:off x="4800600" y="1523880"/>
            <a:ext cx="3276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1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½ Year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304920" y="48006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 </a:t>
            </a: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2 Years of a Lab Science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7086600" y="1554120"/>
            <a:ext cx="16765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Yes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111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457200" y="2133720"/>
            <a:ext cx="2362320" cy="3809880"/>
          </a:xfrm>
          <a:prstGeom prst="rect">
            <a:avLst/>
          </a:prstGeom>
          <a:solidFill>
            <a:srgbClr val="f0a22e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438840" y="2666880"/>
            <a:ext cx="237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iolog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Biology 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3200400" y="2133720"/>
            <a:ext cx="2362320" cy="19047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200400" y="4038480"/>
            <a:ext cx="2362320" cy="1905120"/>
          </a:xfrm>
          <a:prstGeom prst="rect">
            <a:avLst/>
          </a:prstGeom>
          <a:solidFill>
            <a:srgbClr val="00b0f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377160" y="4267080"/>
            <a:ext cx="206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3276720" y="243828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Chemistr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840" y="384120"/>
            <a:ext cx="8955000" cy="12859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59040" y="15238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College Bound ?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120" y="2743200"/>
            <a:ext cx="54104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Physics 1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Chemistry 1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2840" y="384120"/>
            <a:ext cx="8955000" cy="12859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5943600" y="2133720"/>
            <a:ext cx="2362320" cy="380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61722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uhaus 93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164880" y="1523880"/>
            <a:ext cx="24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Garamond Pro Bold"/>
              </a:rPr>
              <a:t>General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480" y="2743200"/>
            <a:ext cx="46483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E-Bio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Horticultur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Adobe Garamond Pro Bold"/>
              </a:rPr>
              <a:t>Anthropolog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47:08Z</dcterms:created>
  <dc:creator> </dc:creator>
  <dc:description/>
  <dc:language>en-US</dc:language>
  <cp:lastModifiedBy> </cp:lastModifiedBy>
  <dcterms:modified xsi:type="dcterms:W3CDTF">2011-01-25T16:47:44Z</dcterms:modified>
  <cp:revision>9</cp:revision>
  <dc:subject/>
  <dc:title>Science</dc:title>
</cp:coreProperties>
</file>